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F742-55EA-413F-B01A-69F1031B1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B3F-ED27-4C4C-9C46-1E9AABB5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A71D-B05A-43A3-935B-77A31255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AB7-56CA-4160-B8E1-A4B8EFBC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012-271C-461B-88CD-643543A9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5DC-D90A-4BF5-923A-0B3A62A5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DF2-0F27-44B5-9AD1-1974446E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054-7C34-4058-A99A-031B7B1A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502F-FC2D-4899-B78A-1B42A355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C87-B9C0-4635-9E8F-DD978D7F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321-E874-4925-B630-50546158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A3C0-5F1D-4D44-859B-7FBB376F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ED3D-3887-4953-8AEB-66C41ABA6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are some pictures of Germa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by penny Bea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25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003640" y="2565360"/>
            <a:ext cx="41403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353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350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4211640" cy="3357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4140360" y="3500280"/>
            <a:ext cx="5003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00:02:34Z</dcterms:created>
  <dc:creator>Admin</dc:creator>
  <dc:description/>
  <dc:language>en-US</dc:language>
  <cp:lastModifiedBy>Admin</cp:lastModifiedBy>
  <dcterms:modified xsi:type="dcterms:W3CDTF">2009-06-01T00:29:56Z</dcterms:modified>
  <cp:revision>3</cp:revision>
  <dc:subject/>
  <dc:title>Here are some pictures of Germany.</dc:title>
</cp:coreProperties>
</file>